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6817-B631-4A1E-8B06-42BC09B57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B9A2-26F3-4F08-A52B-F9430CFD0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656A-6C68-4BA1-8597-89C6D22CB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01B7-DFB2-4474-BC63-FAD8C4166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608-E13C-451E-A9C4-B0305FD3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92B-A928-4CD4-8289-FA16575F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5E9-FFBC-4F87-B46A-8ECC61BE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59D-DD2E-417B-A943-23E89256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2F7-216F-4BDA-9CF7-5E4B2EEA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F62-F055-4315-89B2-7A9D87EB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362-ABAB-423A-AC30-C44DDB26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38D-B2F0-43F8-AED6-9DACCF9D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8DD-DE63-4DE4-80F2-8C2CEAC7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9EB-9684-4B6E-8F39-E6FEC0F9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D61-2CE6-4D74-8F29-CF307702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476-B09B-4435-8C65-5D0CBE8D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9488-C522-4557-B0D5-2C766BA95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5" Type="http://schemas.openxmlformats.org/officeDocument/2006/relationships/image" Target="../media/image1.jpeg"/><Relationship Id="rId6" Type="http://schemas.openxmlformats.org/officeDocument/2006/relationships/hyperlink" Target="http://www.google.com/imgres?imgurl=http://img04.static-nextag.com/image/Franco-Colonial-Duke-with/0/000/006/824/395/682439517.jpg&amp;imgrefurl=http://www.nextag.com/white-costume-wigs/compare-html&amp;usg=__FZrafHwbRFYMCZN4zMSCwl8TOmc=&amp;h=75&amp;w=75&amp;sz=2&amp;hl=en&amp;start=111&amp;zoom=1&amp;um=1&amp;itbs=1&amp;tbnid=AaODcvsiIcJZMM:&amp;tbnh=71&amp;tbnw=71&amp;prev=/search%3Fq%3Dcolonial%2Baristocrats%26start%3D100%26um%3D1%26hl%3Den%26sa%3DN%26rls%3Dcom.microsoft:en-us:IE-SearchBox%26rlz%3D1I7GGLL_en%26ndsp%3D20%26biw%3D1260%26bih%3D575%26tbm%3Disch&amp;ei=E-W2TarAA8jLgQetjZVI" TargetMode="External"/><Relationship Id="rId7" Type="http://schemas.openxmlformats.org/officeDocument/2006/relationships/image" Target="../media/image2.jpeg"/><Relationship Id="rId8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9" Type="http://schemas.openxmlformats.org/officeDocument/2006/relationships/image" Target="../media/image1.jpeg"/><Relationship Id="rId10" Type="http://schemas.openxmlformats.org/officeDocument/2006/relationships/hyperlink" Target="http://www.google.com/imgres?imgurl=http://www.bondandbowery.com/itemimages/12/1900/2964_3.jpg&amp;imgrefurl=http://www.bondandbowery.com/printitem.php%3Fitemid%3D1900&amp;usg=__v445snX8tNL6YnI8f2-ZCTC31zo=&amp;h=420&amp;w=420&amp;sz=123&amp;hl=en&amp;start=4&amp;zoom=1&amp;itbs=1&amp;tbnid=lVGBEO6C4_kYOM:&amp;tbnh=125&amp;tbnw=125&amp;prev=/search%3Fq%3DColonial%2Baristocrats%26hl%3Den%26sa%3DX%26rlz%3D1R2GGLL_enUS361%26biw%3D1260%26bih%3D575%26tbm%3Disch%26prmd%3Divnsb&amp;ei=Wtu6TbS3MIXAgQewgfWjBw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www.google.com/imgres?imgurl=http://media3.everycostume.com/items/gdh.shopbloc.com/130/images-FA-24663-08.jpg&amp;imgrefurl=http://everycostume.com/search/beehive_costumes/page/2&amp;usg=__PUdkomlzaZp3ApA8hwUUbsSPmnA=&amp;h=130&amp;w=130&amp;sz=12&amp;hl=en&amp;start=58&amp;zoom=1&amp;um=1&amp;itbs=1&amp;tbnid=tA9h-RfngltBSM:&amp;tbnh=91&amp;tbnw=91&amp;prev=/search%3Fq%3Dcolonial%2Baristocrat%26start%3D40%26um%3D1%26hl%3Den%26sa%3DN%26rlz%3D1W1GPEA_en%26ndsp%3D20%26biw%3D1260%26bih%3D575%26tbm%3Disch&amp;ei=WG3BTf_2PMHY0QHW1JGzC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www.google.com/imgres?imgurl=http://media3.everycostume.com/items/gdh.shopbloc.com/130/images-FA-24663-08.jpg&amp;imgrefurl=http://everycostume.com/search/beehive_costumes/page/2&amp;usg=__PUdkomlzaZp3ApA8hwUUbsSPmnA=&amp;h=130&amp;w=130&amp;sz=12&amp;hl=en&amp;start=58&amp;zoom=1&amp;um=1&amp;itbs=1&amp;tbnid=tA9h-RfngltBSM:&amp;tbnh=91&amp;tbnw=91&amp;prev=/search%3Fq%3Dcolonial%2Baristocrat%26start%3D40%26um%3D1%26hl%3Den%26sa%3DN%26rlz%3D1W1GPEA_en%26ndsp%3D20%26biw%3D1260%26bih%3D575%26tbm%3Disch&amp;ei=WG3BTf_2PMHY0QHW1JGzCg" TargetMode="External"/><Relationship Id="rId15" Type="http://schemas.openxmlformats.org/officeDocument/2006/relationships/image" Target="../media/image4.jpeg"/><Relationship Id="rId16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17" Type="http://schemas.openxmlformats.org/officeDocument/2006/relationships/image" Target="../media/image1.jpeg"/><Relationship Id="rId18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19" Type="http://schemas.openxmlformats.org/officeDocument/2006/relationships/image" Target="../media/image1.jpeg"/><Relationship Id="rId20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21" Type="http://schemas.openxmlformats.org/officeDocument/2006/relationships/image" Target="../media/image1.jpeg"/><Relationship Id="rId22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23" Type="http://schemas.openxmlformats.org/officeDocument/2006/relationships/image" Target="../media/image1.jpe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www.google.com/imgres?imgurl=http://www.fmschmitt.com/travels/mexico/San%2520Miguel%2520de%2520Allende/JardinArea/2007_12_04_san_miguel_de_allende_-75.jpg&amp;imgrefurl=http://www.fmschmitt.com/travels/mexico/San%2520Miguel%2520de%2520Allende/JardinArea/jardin.html&amp;usg=__dEtmikvZrK5uXzNwQ9y3YSdo9NQ=&amp;h=800&amp;w=600&amp;sz=125&amp;hl=en&amp;start=2&amp;zoom=1&amp;itbs=1&amp;tbnid=1SRhgza2TffO5M:&amp;tbnh=143&amp;tbnw=107&amp;prev=/search%3Fq%3Dcolonial%2Baristocrats%26hl%3Den%26sa%3DG%26biw%3D1260%26bih%3D575%26as_st%3Dy%26tbs%3Diur:f%26tbm%3Disch&amp;ei=G9a6TYHDMcbYgQf10ISaBw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hyperlink" Target="http://www.google.com/imgres?imgurl=http://www.fmschmitt.com/travels/mexico/San%2520Miguel%2520de%2520Allende/JardinArea/2007_12_04_san_miguel_de_allende_-75.jpg&amp;imgrefurl=http://www.fmschmitt.com/travels/mexico/San%2520Miguel%2520de%2520Allende/JardinArea/jardin.html&amp;usg=__dEtmikvZrK5uXzNwQ9y3YSdo9NQ=&amp;h=800&amp;w=600&amp;sz=125&amp;hl=en&amp;start=2&amp;zoom=1&amp;itbs=1&amp;tbnid=1SRhgza2TffO5M:&amp;tbnh=143&amp;tbnw=107&amp;prev=/search%3Fq%3Dcolonial%2Baristocrats%26hl%3Den%26sa%3DG%26biw%3D1260%26bih%3D575%26as_st%3Dy%26tbs%3Diur:f%26tbm%3Disch&amp;ei=G9a6TYHDMcbYgQf10ISaBw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www.google.com/imgres?imgurl=http://i3.squidoocdn.com/resize/squidoo_images/-1/lens1771279_1299047799Simon-Bolivar.jpg&amp;imgrefurl=http://www.squidoo.com/simon-bolivar&amp;usg=__WUY5WRVA4-49DVhP4DEBOZe967E=&amp;h=387&amp;w=250&amp;sz=71&amp;hl=en&amp;start=84&amp;zoom=1&amp;um=1&amp;itbs=1&amp;tbnid=SQwlkjU7udnhfM:&amp;tbnh=123&amp;tbnw=79&amp;prev=/search%3Fq%3Dcolonial%2Baristocrats%26start%3D80%26um%3D1%26hl%3Den%26sa%3DN%26rls%3Dcom.microsoft:en-us:IE-SearchBox%26rlz%3D1I7GGLL_en%26ndsp%3D20%26biw%3D1260%26bih%3D575%26tbm%3Disch&amp;ei=Z-C2Tf78HcSBgAes27w_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www.google.com/imgres?imgurl=http://media3.everycostume.com/items/gdh.shopbloc.com/130/images-FA-24663-08.jpg&amp;imgrefurl=http://everycostume.com/search/beehive_costumes/page/2&amp;usg=__PUdkomlzaZp3ApA8hwUUbsSPmnA=&amp;h=130&amp;w=130&amp;sz=12&amp;hl=en&amp;start=58&amp;zoom=1&amp;um=1&amp;itbs=1&amp;tbnid=tA9h-RfngltBSM:&amp;tbnh=91&amp;tbnw=91&amp;prev=/search%3Fq%3Dcolonial%2Baristocrat%26start%3D40%26um%3D1%26hl%3Den%26sa%3DN%26rlz%3D1W1GPEA_en%26ndsp%3D20%26biw%3D1260%26bih%3D575%26tbm%3Disch&amp;ei=WG3BTf_2PMHY0QHW1JGzCg" TargetMode="External"/><Relationship Id="rId12" Type="http://schemas.openxmlformats.org/officeDocument/2006/relationships/image" Target="../media/image4.jpeg"/><Relationship Id="rId13" Type="http://schemas.openxmlformats.org/officeDocument/2006/relationships/hyperlink" Target="http://www.google.com/imgres?imgurl=http://www.bondandbowery.com/itemimages/12/1900/2964_3.jpg&amp;imgrefurl=http://www.bondandbowery.com/printitem.php%3Fitemid%3D1900&amp;usg=__v445snX8tNL6YnI8f2-ZCTC31zo=&amp;h=420&amp;w=420&amp;sz=123&amp;hl=en&amp;start=4&amp;zoom=1&amp;itbs=1&amp;tbnid=lVGBEO6C4_kYOM:&amp;tbnh=125&amp;tbnw=125&amp;prev=/search%3Fq%3DColonial%2Baristocrats%26hl%3Den%26sa%3DX%26rlz%3D1R2GGLL_enUS361%26biw%3D1260%26bih%3D575%26tbm%3Disch%26prmd%3Divnsb&amp;ei=Wtu6TbS3MIXAgQewgfWjBw" TargetMode="External"/><Relationship Id="rId14" Type="http://schemas.openxmlformats.org/officeDocument/2006/relationships/image" Target="../media/image3.jpeg"/><Relationship Id="rId15" Type="http://schemas.openxmlformats.org/officeDocument/2006/relationships/hyperlink" Target="http://www.google.com/imgres?imgurl=http://img04.static-nextag.com/image/Franco-Colonial-Duke-with/0/000/006/824/395/682439517.jpg&amp;imgrefurl=http://www.nextag.com/white-costume-wigs/compare-html&amp;usg=__FZrafHwbRFYMCZN4zMSCwl8TOmc=&amp;h=75&amp;w=75&amp;sz=2&amp;hl=en&amp;start=111&amp;zoom=1&amp;um=1&amp;itbs=1&amp;tbnid=AaODcvsiIcJZMM:&amp;tbnh=71&amp;tbnw=71&amp;prev=/search%3Fq%3Dcolonial%2Baristocrats%26start%3D100%26um%3D1%26hl%3Den%26sa%3DN%26rls%3Dcom.microsoft:en-us:IE-SearchBox%26rlz%3D1I7GGLL_en%26ndsp%3D20%26biw%3D1260%26bih%3D575%26tbm%3Disch&amp;ei=E-W2TarAA8jLgQetjZVI" TargetMode="External"/><Relationship Id="rId16" Type="http://schemas.openxmlformats.org/officeDocument/2006/relationships/image" Target="../media/image2.jpeg"/><Relationship Id="rId17" Type="http://schemas.openxmlformats.org/officeDocument/2006/relationships/hyperlink" Target="http://www.google.com/imgres?imgurl=http://i157.photobucket.com/albums/t45/maggie6138/maggie4/copley2.jpg&amp;imgrefurl=http://www.womenhistoryblog.com/2009/06/susanna-farnham-clarke-copley.html&amp;usg=__PV0JSmtkFII_LMdNTxGdOMq7lUI=&amp;h=160&amp;w=160&amp;sz=8&amp;hl=en&amp;start=55&amp;zoom=1&amp;um=1&amp;itbs=1&amp;tbnid=SGNUCjBTtdmY4M:&amp;tbnh=98&amp;tbnw=98&amp;prev=/search%3Fq%3Dcolonial%2Baristocrats%26start%3D40%26um%3D1%26hl%3Den%26sa%3DN%26rlz%3D1W1GPEA_en%26ndsp%3D20%26biw%3D1260%26bih%3D575%26tbm%3Disch&amp;ei=zL_CTZ25C8TI0QGFxYCBBA" TargetMode="External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129528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hu Lockton is preparing to bribe the patri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(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1981080" y="1066680"/>
            <a:ext cx="838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1,17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chester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 flipV="1" rot="10800000">
            <a:off x="-360" y="58669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ksta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609480" y="58672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ldbutt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4"/>
          <p:cNvSpPr/>
          <p:nvPr/>
        </p:nvSpPr>
        <p:spPr>
          <a:xfrm>
            <a:off x="2590920" y="259092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is preparing to flee New York.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8,177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to 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w have your plans been going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7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There are rebels everywhere, I didn’t think there would be this many. June 25, 177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y wife and I have just bought two slaves by t\he names of Isabel and Rut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0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e have just arrived in New Yor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y wife and I have to go to New York for a while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8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0" descr="http://t1.gstatic.com/images?q=tbn:ANd9GcQsVdyDm-3eBez002xyKFTXPnpKGLhanrh5vQCkKBsCM4zITAELXhk7pQ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609480"/>
            <a:ext cx="106704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8" descr="http://t3.gstatic.com/images?q=tbn:ANd9GcSdVuRpya2VZ8fTviRVFoleFzrWv3lQ1YfbNQwstTRpZ8as7EQzDUXge8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410080"/>
            <a:ext cx="381240" cy="4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0" descr="http://t1.gstatic.com/images?q=tbn:ANd9GcQsVdyDm-3eBez002xyKFTXPnpKGLhanrh5vQCkKBsCM4zITAELXhk7pQ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33720" y="2514600"/>
            <a:ext cx="3808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9" descr="http://t1.gstatic.com/images?q=tbn:ANd9GcRVBez4jZUgyhCUXafi40z7QeAKp8g7fBKF70pnZzzYxhOMXPDD2G__u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" y="5334120"/>
            <a:ext cx="657360" cy="50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8" descr="http://t1.gstatic.com/images?q=tbn:ANd9GcRRGMCbK1CjrxHXtiQOruBQYpa2pvp0pumWjbM_yysATHhGocFhE-xIh4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447920" y="53341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8"/>
          <p:cNvSpPr/>
          <p:nvPr/>
        </p:nvSpPr>
        <p:spPr>
          <a:xfrm>
            <a:off x="1371600" y="5867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e 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8" descr="http://t1.gstatic.com/images?q=tbn:ANd9GcRRGMCbK1CjrxHXtiQOruBQYpa2pvp0pumWjbM_yysATHhGocFhE-xIh4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133720" y="31240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0" descr="http://t1.gstatic.com/images?q=tbn:ANd9GcQsVdyDm-3eBez002xyKFTXPnpKGLhanrh5vQCkKBsCM4zITAELXhk7pQ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133720" y="3733920"/>
            <a:ext cx="38088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http://t1.gstatic.com/images?q=tbn:ANd9GcQsVdyDm-3eBez002xyKFTXPnpKGLhanrh5vQCkKBsCM4zITAELXhk7pQ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133720" y="4419720"/>
            <a:ext cx="3808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0" descr="http://t1.gstatic.com/images?q=tbn:ANd9GcQsVdyDm-3eBez002xyKFTXPnpKGLhanrh5vQCkKBsCM4zITAELXhk7pQ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133720" y="5105520"/>
            <a:ext cx="38088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0" descr="http://t1.gstatic.com/images?q=tbn:ANd9GcQsVdyDm-3eBez002xyKFTXPnpKGLhanrh5vQCkKBsCM4zITAELXhk7pQ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133720" y="5791320"/>
            <a:ext cx="380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bribe the patrio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Elihu(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Elihu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, 17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chester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1, 17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 Anne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Hiding from the patriots, creating plans to win the w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England’s rule, abusing his w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eetoven, Bac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leepy Hollow, The Three Muskete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tle House on the Prai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 Tale of Two Cities, The count of Monte Cris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 Alb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914400" y="5562720"/>
            <a:ext cx="838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Lockton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0 Wall St. Avenue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676) 134-47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0" descr="http://t1.gstatic.com/images?q=tbn:ANd9GcQsVdyDm-3eBez002xyKFTXPnpKGLhanrh5vQCkKBsCM4zITAELXhk7p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762120"/>
            <a:ext cx="106668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7" descr="http://t1.gstatic.com/images?q=tbn:ANd9GcTsxTRuolvsWTm2wP8jiY_TKEyzuHtGznGfdfYB7YeAWK8qwbwE9_sTFj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334120"/>
            <a:ext cx="638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hu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152280" y="1523880"/>
            <a:ext cx="746784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85800" y="1523880"/>
            <a:ext cx="190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uhu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 Photo Albu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76212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ihu’s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3657600" y="624852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bribe the patrio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7" descr="http://t1.gstatic.com/images?q=tbn:ANd9GcTsxTRuolvsWTm2wP8jiY_TKEyzuHtGznGfdfYB7YeAWK8qwbwE9_sTFj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029200"/>
            <a:ext cx="101916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0" descr="http://t1.gstatic.com/images?q=tbn:ANd9GcQsVdyDm-3eBez002xyKFTXPnpKGLhanrh5vQCkKBsCM4zITAELXhk7p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502920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0" descr="http://t1.gstatic.com/images?q=tbn:ANd9GcQsVdyDm-3eBez002xyKFTXPnpKGLhanrh5vQCkKBsCM4zITAELXhk7pQ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45720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0" descr="http://t1.gstatic.com/images?q=tbn:ANd9GcQsVdyDm-3eBez002xyKFTXPnpKGLhanrh5vQCkKBsCM4zITAELXhk7pQ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14400" y="190512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8" descr="http://t1.gstatic.com/images?q=tbn:ANd9GcRRGMCbK1CjrxHXtiQOruBQYpa2pvp0pumWjbM_yysATHhGocFhE-xIh44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057400" y="190512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9" descr="http://t1.gstatic.com/images?q=tbn:ANd9GcRVBez4jZUgyhCUXafi40z7QeAKp8g7fBKF70pnZzzYxhOMXPDD2G__u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00400" y="1905120"/>
            <a:ext cx="96192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8" descr="http://t3.gstatic.com/images?q=tbn:ANd9GcSdVuRpya2VZ8fTviRVFoleFzrWv3lQ1YfbNQwstTRpZ8as7EQzDUXge8Y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343400" y="19051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8" descr="http://t0.gstatic.com/images?q=tbn:ANd9GcR-IccPHF47eBT42yAvrqZv3bApgaYfB6ITiL4NDfXz65STe-uHjc9031Q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62720" y="1905120"/>
            <a:ext cx="933480" cy="1066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0" descr="http://t1.gstatic.com/images?q=tbn:ANd9GcTpLoE2AoyZ_KTLtQamaVyqg_YA2gSeyCR1g6bh0CUx9T4ZVhX8PFWsiA"/>
          <p:cNvPicPr/>
          <p:nvPr/>
        </p:nvPicPr>
        <p:blipFill>
          <a:blip r:embed="rId19"/>
          <a:stretch/>
        </p:blipFill>
        <p:spPr>
          <a:xfrm>
            <a:off x="914400" y="3200400"/>
            <a:ext cx="990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4T07:24:44Z</dcterms:modified>
  <cp:revision>36</cp:revision>
  <dc:subject/>
  <dc:title>Profile</dc:title>
</cp:coreProperties>
</file>